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2F9-FA60-42FF-8634-3367EBCC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868-22BA-41B0-8044-A7AC8A31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F5D-555A-4D2B-9229-9D5D9A9F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A02-4959-4BC4-8138-FA5E3143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ED64-86AF-45D2-802D-2D12B10A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D33-98C2-44C6-A2CD-4F4BB62A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034-5AD3-4F65-AB70-BABE4CB2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3DF-9227-4D82-B04E-EE17DF4A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8CE8-5339-4BF4-BFC6-12E2743C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B3ED-2948-4642-888E-6B15A2C7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8DB8-A6B9-4FC7-BC4F-9467A0D1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B0E4-2655-468C-9860-459AFE29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C844-9760-4E11-AB86-3F61BBD06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oliday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962520"/>
            <a:ext cx="86868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rabic Transparent"/>
                <a:cs typeface="Arabic Transparent"/>
              </a:rPr>
              <a:t>قد محوتُ كالسَّحابِ معاصِيَكَ وكالغَمامِ خطاياكَ إرجَعْ إليَّ فإني افتَدَيْتُكَ ولن أنساك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قد محوتُ كالسَّحابِ معاصِيَكَ وكالغَمامِ خطاياكَ إرجَعْ إليَّ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إني افتَدَيْتُكَ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2901341hwAoAJDEMV_ph" descr=""/>
          <p:cNvPicPr/>
          <p:nvPr/>
        </p:nvPicPr>
        <p:blipFill>
          <a:blip r:embed="rId1"/>
          <a:stretch/>
        </p:blipFill>
        <p:spPr>
          <a:xfrm>
            <a:off x="3581280" y="0"/>
            <a:ext cx="61959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581280" cy="9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لا تَخَفْ دَعَوْتُكَ  باسمِكَ وَ أنتَ لي إذا اجتزتَ في المياه فأكونُ مع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إن عَبَرتَ في الأنهارْ لا تَغمُرُكَ وإن سِرْتَ في النارْ لا تلذَعُ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لأني أنا الربُّ فاديك جبيلُكَ في البطنِ صنيعُ كلِّ شي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لأني أنا الربُّ فاديك فإني قد أحبَبْتُكَ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holiday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962520"/>
            <a:ext cx="86868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rabic Transparent"/>
                <a:cs typeface="Arabic Transparent"/>
              </a:rPr>
              <a:t>قد محوتُ كالسَّحابِ معاصِيَكَ وكالغَمامِ خطاياكَ إرجَعْ إليَّ فإني افتَدَيْتُكَ ولن أنساك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قد محوتُ كالسَّحابِ معاصِيَكَ وكالغَمامِ خطاياكَ إرجَعْ إليَّ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إني افتَدَيْتُكَ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aby900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572000" cy="85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8f8f8"/>
                </a:solidFill>
                <a:latin typeface="Times New Roman"/>
                <a:cs typeface="Arabic Transparent"/>
              </a:rPr>
              <a:t>هل تنسى المرأة رضيعَها فلا ترحمُ طفلَها إذا نسيَتِ النساء فأنا لا أنسا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8f8f8"/>
                </a:solidFill>
                <a:latin typeface="Times New Roman"/>
                <a:cs typeface="Arabic Transparent"/>
              </a:rPr>
              <a:t>ها أنا نقَشْتُكَ على كفَّيَّ وأنتَ أمامَ عينيَّ في كلِّ حي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8f8f8"/>
                </a:solidFill>
                <a:latin typeface="Times New Roman"/>
                <a:cs typeface="Arabic Transparent"/>
              </a:rPr>
              <a:t>حيٌّ أنا يقولُ الرب خلاصي إلى الأبدِ أمانتي  مدى الده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8f8f8"/>
                </a:solidFill>
                <a:latin typeface="Times New Roman"/>
                <a:cs typeface="Arabic Transparent"/>
              </a:rPr>
              <a:t>حيٌّ أنا يقولُ الرب من يَثِقُ بي لا يَخز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8f8f8"/>
                </a:solidFill>
                <a:latin typeface="Times New Roman"/>
                <a:cs typeface="Times New Roman"/>
              </a:rPr>
              <a:t>حيٌّ أنا يقولُ الرب من يَثِقُ بي لا يَخزى</a:t>
            </a:r>
            <a:r>
              <a:rPr b="0" lang="ar-SA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holiday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962520"/>
            <a:ext cx="86868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rabic Transparent"/>
                <a:cs typeface="Arabic Transparent"/>
              </a:rPr>
              <a:t>قد محوتُ كالسَّحابِ معاصِيَكَ وكالغَمامِ خطاياكَ إرجَعْ إليَّ فإني افتَدَيْتُكَ ولن أنساك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قد محوتُ كالسَّحابِ معاصِيَكَ وكالغَمامِ خطاياكَ إرجَعْ إليَّ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إني افتَدَيْتُكَ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8:27:28Z</dcterms:created>
  <dc:creator>SUZANNE.MD</dc:creator>
  <dc:description/>
  <dc:language>en-US</dc:language>
  <cp:lastModifiedBy>USER</cp:lastModifiedBy>
  <dcterms:modified xsi:type="dcterms:W3CDTF">2003-02-20T13:46:35Z</dcterms:modified>
  <cp:revision>2</cp:revision>
  <dc:subject/>
  <dc:title>PowerPoint Presentation</dc:title>
</cp:coreProperties>
</file>